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65A-7D17-40AF-8322-8BD4DDAC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043-C9FA-4CE9-9A2B-9DFD405C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E58-C930-4A19-BC99-63186AD5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C8C-4529-4852-ACC2-0E829B84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86F-C1D2-4CB4-81DF-D646C988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EDE-61DE-40A7-8FF1-F9A63DA9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AC0-40EB-4871-A249-FB1F357E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D6B-CE61-4B3C-9125-6549F46E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67B-CE2C-43B5-9D16-D2D732CE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DD8-4EA6-46C5-94AC-E8574B66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E85-5E4C-4E9B-B1D4-05115B49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907-67A6-46DF-B843-76954D50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122C-1442-4FB1-9531-7BF4C4E84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7 Môj Kráľ a P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v láske svojej nekone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 chystáš blah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ov večný;</a:t>
            </a:r>
            <a:br>
              <a:rPr sz="48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so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celko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tvoj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už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navždy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tvoj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.</a:t>
            </a:r>
            <a:br>
              <a:rPr sz="40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vojej lásky da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ím sa ti odvďačí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ja ti d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čím prísť pred tvoju tvá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ím svoj dlh zaplatí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voje srdce, drah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tvojej prebodnutej dla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vložiť chce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iem, že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tebou sklon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hriech ti vyzná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,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biedny, strat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šetko je len kl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ebe moja nádej,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jediná si radosť, krá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žitia cieľ, môj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ebe ďakuj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šetko, čo smiem mať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pásy pl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krásnu novú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chceš mi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19:30:56Z</dcterms:modified>
  <cp:revision>20</cp:revision>
  <dc:subject/>
  <dc:title>Je veľký náš Pán, on slávy je Kráľ Nech do všetkých strán  spev vrúcnych znie chvál.</dc:title>
</cp:coreProperties>
</file>